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4525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1A1164-9F31-403C-94E4-38E79CF888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D45685-4B8E-49C1-BED6-09F237CD8D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8A3F0-05E6-42F9-8E91-23A926405B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FE0EBD-6CFB-4E85-B4C4-EFF860A9DC1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AD67A-C475-4D0E-AA15-36D44C3098F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240BF-6B75-4779-A3FA-6EC9F7ECB6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4022-44DD-4598-8CD9-0CEDD7A343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56037-5F77-49DF-B4E1-90516AFE8C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B4CBD-816F-4B9F-A06F-2DCF824072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7CF5C0-3DAC-41FB-997A-138B0CBF26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AA2B0-CDEA-46F4-9BCD-F834FA8359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D74E5-52DC-4267-92AC-77D1893B34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Ken Arnold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8DA7BEA4-122A-4381-8FB7-C6F21B45818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12720" y="1931400"/>
            <a:ext cx="7056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is Jini™</a:t>
            </a:r>
            <a:r>
              <a:rPr b="0" lang="en-US" sz="800" spc="-1" strike="noStrike" baseline="100000">
                <a:solidFill>
                  <a:srgbClr val="ffffff"/>
                </a:solidFill>
                <a:latin typeface="Times New Roman"/>
              </a:rPr>
              <a:t>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uff, Anyw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Arno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ire Protocols Matte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has to go on the wi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rity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mpre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obustnes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essage cou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tensibility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fficien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ase of production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se of consump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ire Protocols make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d Network Standar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erges “what I do” with “how I do it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y define too mu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w capable are the endpoi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ck down tradeoff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flexib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terfaces make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Good Network Standar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at I do”: Implementations va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lementations can be invented any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lementations can be moved where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ire protocols can be adapted to the application doma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XML (A Digression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 the local case, we have learned that object oriented programming is g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gramming with data structures has proven to be not so g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XML is (nice) data stru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y relearn the lesson on the network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Architecture is Objects on the Wi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s are defined by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lementations move where they are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one can create a new service using existing stuf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ire protocols are a private mat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urrent Uses/Resear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rnal service finding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 extensible internal expansion b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ternal service publicatio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ication servers, proxy serv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ilitary field information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nting, storage working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ministration, service interfaces, accessi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61680" y="1630440"/>
            <a:ext cx="7373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ttp://jini.or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ttp://sun.com/jin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ini-users@java.sun.co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ok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he Jini Specificati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JavaSpaces Principles, Patterns, and Practices,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ison-Wesl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ore Jin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Prentice H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ttp://java.sun.com/docs/books/jin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Jini Series, Addison Wesl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get the source: use 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write tools: share th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create products: sell th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have an itch: scratch 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27160" y="274104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Completely New Tal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370584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lm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Goals of Jini</a:t>
            </a:r>
            <a:r>
              <a:rPr b="0" lang="en-US" sz="1900" spc="-1" strike="noStrike" baseline="100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Archite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lug-and-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rase the hardware/software disti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ow spontaneous network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able a service-based architec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bove all, to provide the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system possib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1900" spc="-1" strike="noStrike" baseline="100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Technology Makes It Wor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62040" y="1981080"/>
            <a:ext cx="735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 virtual machine = Homogeneous Net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rtable object co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fety through verifi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single type system for the network and th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ynamic environ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pontaneous Network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61680" y="1805040"/>
            <a:ext cx="737388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s join federation by discovering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gistering with Lookup Service = advertising your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find services by Java programming languag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de moves from service to cli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de needed to use service is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dynamically loaded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when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gister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463760" y="1241280"/>
            <a:ext cx="7162560" cy="4407120"/>
            <a:chOff x="1463760" y="1241280"/>
            <a:chExt cx="7162560" cy="4407120"/>
          </a:xfrm>
        </p:grpSpPr>
        <p:sp>
          <p:nvSpPr>
            <p:cNvPr id="54" name=""/>
            <p:cNvSpPr/>
            <p:nvPr/>
          </p:nvSpPr>
          <p:spPr>
            <a:xfrm>
              <a:off x="5400720" y="1762200"/>
              <a:ext cx="3225600" cy="1993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44640" y="3933720"/>
              <a:ext cx="2819520" cy="171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6000" y="4302000"/>
              <a:ext cx="1904760" cy="82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 Proxy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63760" y="3463920"/>
              <a:ext cx="28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work 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13280" y="1241280"/>
              <a:ext cx="24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okup 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473720" y="3235320"/>
              <a:ext cx="134604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19760" y="2397240"/>
              <a:ext cx="1905120" cy="82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 Proxy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56000" y="4213080"/>
              <a:ext cx="1904760" cy="88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13280" y="2308320"/>
              <a:ext cx="1905120" cy="88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inding a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264200"/>
            <a:ext cx="3225960" cy="1993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63720"/>
            <a:ext cx="2819520" cy="17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139392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36800" y="3743280"/>
            <a:ext cx="24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up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48040" y="2355840"/>
            <a:ext cx="1790640" cy="210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43280" y="4898880"/>
            <a:ext cx="19047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x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48040" y="3149640"/>
            <a:ext cx="1790640" cy="21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43280" y="4809960"/>
            <a:ext cx="1904760" cy="88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638680" y="2664000"/>
            <a:ext cx="1905120" cy="914400"/>
            <a:chOff x="5638680" y="2664000"/>
            <a:chExt cx="1905120" cy="914400"/>
          </a:xfrm>
        </p:grpSpPr>
        <p:sp>
          <p:nvSpPr>
            <p:cNvPr id="73" name=""/>
            <p:cNvSpPr/>
            <p:nvPr/>
          </p:nvSpPr>
          <p:spPr>
            <a:xfrm>
              <a:off x="5638680" y="2752920"/>
              <a:ext cx="1905120" cy="82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 Proxy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2664000"/>
              <a:ext cx="1905120" cy="88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rot="18618600">
            <a:off x="3712320" y="266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ing the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978200"/>
            <a:ext cx="2819520" cy="171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2867040"/>
            <a:ext cx="190512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x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150804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59120" y="3679920"/>
            <a:ext cx="1917720" cy="1257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01720" y="4390920"/>
            <a:ext cx="2819520" cy="17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20840" y="392112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2778120"/>
            <a:ext cx="1905120" cy="88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0400" y="228276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ire protocols define what goes on the wi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rfaces define what you d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SansTypewriter"/>
              <a:buChar char="–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public void flipSwitch(boolean on)</a:t>
            </a:r>
            <a:endParaRPr b="0" lang="en-US" sz="2000" spc="-1" strike="noStrike">
              <a:solidFill>
                <a:srgbClr val="ffffff"/>
              </a:solidFill>
              <a:latin typeface="SunSans-Dem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ire Protocols </a:t>
            </a: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Interfa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25960" y="3117960"/>
            <a:ext cx="3895560" cy="519120"/>
            <a:chOff x="3225960" y="3117960"/>
            <a:chExt cx="3895560" cy="519120"/>
          </a:xfrm>
        </p:grpSpPr>
        <p:sp>
          <p:nvSpPr>
            <p:cNvPr id="88" name=""/>
            <p:cNvSpPr/>
            <p:nvPr/>
          </p:nvSpPr>
          <p:spPr>
            <a:xfrm>
              <a:off x="3225960" y="3117960"/>
              <a:ext cx="3693960" cy="49068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1  17  33  9F  77  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0224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4324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1160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9760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56280" y="3117960"/>
              <a:ext cx="106524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6740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Ken Arnold</cp:lastModifiedBy>
  <cp:lastPrinted>1999-01-15T22:44:49Z</cp:lastPrinted>
  <dcterms:modified xsi:type="dcterms:W3CDTF">1999-09-20T17:01:55Z</dcterms:modified>
  <cp:revision>15305</cp:revision>
  <dc:subject/>
  <dc:title>No Slide Title</dc:title>
</cp:coreProperties>
</file>